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A00-5392-41C8-95A2-6EA24D37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CA5-630A-40D8-B942-A455E2AA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58C-6DE3-4103-A2E3-44F12851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17A-AC6C-4FCB-9B31-3E8C533B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3FC5-A8BB-490C-92D4-1007498B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F365-AAD2-4E5B-8C6B-C8881DB8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28AF-888D-4498-A65A-931C8D5E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2CFB-C761-4157-8677-2D842662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557B-4920-41D2-92DE-3AF3864F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5C46-A76D-4F03-AB5F-60787BAF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AB48-42EE-41F1-8AB0-8D17E144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E44-20FB-49F7-8221-2E1E6345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EE84-6673-4781-B084-75187B1A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5D65-E096-4807-803F-C7AB0D9A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A613-9317-4C0C-8C1C-9C2A5A40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7417-58D4-46E9-ACFF-94D00D37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1245-3FD4-4911-95AC-E1321856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228-20DE-42B2-965F-0826E6C9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67D-4C3C-4ACA-B777-24D06D67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9D2-AF7B-4222-9DF3-D06DA862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C23-9230-48B2-9BFD-0DEBDB70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FE1-3600-457F-9036-6539DEE2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F06-1B6E-4EB7-ADE8-B8C4486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6E6-EBA6-488E-9A68-ECE815D8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A6EE-5804-4BC3-A3A7-41F851270E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658D-ECC3-43F1-AB8A-347FE7DCAF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e llamo _____________          Clase 7 IL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a fecha es el 31 de mayo del 2013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Propósito # 87: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ómo  continuamos el repaso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414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0000"/>
                </a:solidFill>
                <a:latin typeface="Verdana"/>
              </a:rPr>
              <a:t>Actividad Inici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414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pia y responde con el P.O.D correc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Tienes una mochila nuev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Compraste los cuaderno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Tomaste el examen de matematica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Jugaste futbol en educacion fisic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Buscaste informacion en el Interne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¿Enviaste un correo electronico anoch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Completa la hoja </a:t>
            </a:r>
            <a:r>
              <a:rPr b="0" lang="es-ES_tradnl" sz="2900" spc="-1" strike="noStrike" u="sng">
                <a:solidFill>
                  <a:srgbClr val="000000"/>
                </a:solidFill>
                <a:uFillTx/>
                <a:latin typeface="Verdana"/>
              </a:rPr>
              <a:t>P.O.D #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8001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Verdana"/>
              </a:rPr>
              <a:t>Direct Object (Objeto Direct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Takes the action of the verb. Answers </a:t>
            </a:r>
            <a:r>
              <a:rPr b="0" i="1" lang="es-ES_tradnl" sz="2500" spc="-1" strike="noStrike">
                <a:solidFill>
                  <a:srgbClr val="000000"/>
                </a:solidFill>
                <a:latin typeface="Verdana"/>
              </a:rPr>
              <a:t>What? / Whom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2500" spc="-1" strike="noStrike">
                <a:solidFill>
                  <a:srgbClr val="008000"/>
                </a:solidFill>
                <a:latin typeface="Verdana"/>
              </a:rPr>
              <a:t>Amadeus  tap da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2500" spc="-1" strike="noStrike">
                <a:solidFill>
                  <a:srgbClr val="800080"/>
                </a:solidFill>
                <a:latin typeface="Verdana"/>
              </a:rPr>
              <a:t>Amadeus baila  ta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sculine, singul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minine, singul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sculine, plur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Verdana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minine, plur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D.O.P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(P.O.D.)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lways agree in gender/number with the noun it replac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914400" y="3962520"/>
            <a:ext cx="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 rot="16200000">
            <a:off x="222480" y="46526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. O.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914400" y="39625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914400" y="5715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087560" y="403848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092240" y="441972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020960" y="487692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048320" y="52578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638680" y="1752480"/>
            <a:ext cx="9907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5791320" y="1752120"/>
            <a:ext cx="304560" cy="2286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577840" y="1828800"/>
            <a:ext cx="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V="1">
            <a:off x="5334120" y="2057040"/>
            <a:ext cx="304560" cy="2286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4800600" y="2514600"/>
            <a:ext cx="7621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4876920" y="1447920"/>
            <a:ext cx="6094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5410080" y="1752480"/>
            <a:ext cx="38124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9"/>
          <p:cNvSpPr/>
          <p:nvPr/>
        </p:nvSpPr>
        <p:spPr>
          <a:xfrm>
            <a:off x="5715000" y="2209680"/>
            <a:ext cx="6094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4495680" y="1676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D.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0912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rect Object PRONOUN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PRONOMBRES de Objeto Directo)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75960"/>
            <a:ext cx="73134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actica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Rewrite and replace the Direct Object with the Direct Object Pronou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Martín entendió la clase de algebr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Rosa montó bicicleta en el parq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Patricio escribe una novela en francé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doctor examina los oj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680" y="380520"/>
            <a:ext cx="784872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5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los traen un vas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6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No veo la pizarr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7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No escribimos los ensay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8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maestro explica la lecc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9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Tenemos el anorak aquí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Verdana"/>
              </a:rPr>
              <a:t>10. 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La señora no vende frut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rea # 87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la hoja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Direct Object Pronouns-Pronombres de objeto direct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9:44:49Z</dcterms:created>
  <dc:creator>Helen Zumaeta</dc:creator>
  <dc:description/>
  <dc:language>en-US</dc:language>
  <cp:lastModifiedBy>Helen Zumaeta</cp:lastModifiedBy>
  <dcterms:modified xsi:type="dcterms:W3CDTF">2013-05-31T19:31:06Z</dcterms:modified>
  <cp:revision>24</cp:revision>
  <dc:subject/>
  <dc:title>Slide 1</dc:title>
</cp:coreProperties>
</file>